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ADA47-405E-4DE5-8D3B-6ED72853E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5A88C-BAF8-4C5B-8552-FE192944E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E3836-A521-4188-A998-1F423E4D2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A29D3-A4E8-4847-8E6B-F85D1CB17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F9217-7EE9-4F86-BFB3-0A65B398A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2828F-4825-433A-B521-C35E90707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F430C-E6C2-46C0-8186-379ABC0C8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4773A-1FFA-47E2-AE02-837844948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6DFB4-E45F-4730-9896-BD492CEB3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AA4E5-B15C-436A-A5E4-1AE8AB302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39CF6-6B39-4455-971B-E20862AE2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68FA-BFF9-4E80-A0CA-0751CD645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FEDB4-8AA6-4208-B68C-7A0377F08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2780A-087D-40A1-9BC1-3B14450F1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7FDA5-9066-4AA3-9BE6-3FD67B659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77399-66F8-4DD5-B11A-021B10D0F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F96D0-63A0-4605-96E4-71F8E4612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89C7E-BBEA-4D22-B9AB-ACEE2B31B6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8FE7E2-0245-44D4-B4F2-664F4993A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38F25-5C3D-4A25-91B3-92C36A1D4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2F1C1-76D1-4E2D-B086-745E0F6A3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E69BB-C1F2-49B5-A5F1-142F24035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06239-DEB3-4C76-AEAA-8C579B979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4BDD2-4264-4851-A582-5A7F970FC3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99926-7637-4921-AA18-BA788F97D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CA40B-909A-47D0-B3C8-99A7FA61F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5BF8F-9CD1-401F-BFC7-D93D3F01B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256AE-831E-4425-8C7B-851382C13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D8D01B-ED32-4900-AF8D-7791344DB6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A06CF8-EBCF-40C5-9B96-FC9FCA6971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E18AC7-65D1-4E1A-9C38-FEBE201629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9CA84D-1BAC-465E-A994-697A4F15B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F0437-C5E1-43D6-B909-E8F29EFB8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08F1E-D600-4ED0-AEE0-E1AC3A44F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0D545-6562-49FC-B8A3-AE9E95269E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921E2-C205-47A2-8260-617C593C2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096EDF-5F5B-4D96-AB6D-56B01BFB9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8E715-D73E-48AE-BB2E-0A5D85F85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882B0-EF40-46C5-9E0B-ECDBF91A4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81B54-2A7F-486C-89AB-37E3FF5C72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5051E-DDE9-4C0C-90C6-3FF95AD65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CC5F84-4EFD-494B-AD86-9699C88F68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3D65A2-9FB0-4563-B6BF-BE2B405194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E06F90-CE67-4CEF-8918-1C8C0A3E50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D9EF3-6BE0-4C25-9554-E5C712178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B7D9B-17B7-4925-A2B9-4EFD2445C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9A3664-1D12-4FA0-95F0-03EEC91DB0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4CC7EE-A158-4B65-98A1-1D2FBBAA20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BDA9F5-D612-4B17-BCF9-1EAAAB97B8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96144-2257-4808-B0A2-CE067F4B5A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C6FEA-63D9-4D10-B405-36E210370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10DAC-DB5A-45CD-B716-3303AC2E9A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FB2B9-BB3D-431D-8C64-C876C0270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C8DF82-4190-4855-B8E2-E0DCEE7D5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12064F-51BE-4329-8B29-AB1F45F282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37AD4-0D8D-4DC9-ACBD-EBD87F17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3F5AA9-E9B7-4076-9076-C3392DE411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FAD977-128D-445B-86B1-55ECA64684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56C652-825D-4C19-A616-4611855304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9DAA1-BFE4-45A1-81F1-B14509199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A19C2-6632-4B8B-91BC-086D3F8244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F9B0CF-BAD5-47AD-9D7C-22004E450C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0C71CD-EC85-4ADE-8FF1-F79F8A86B7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A57EAD-B3F2-42DD-9831-A274A3FFA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78EA0-B2DF-47D0-BF09-D673D7C2A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F8EEDB-3F96-462B-A923-0B9A08A79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A1864-185D-42A1-9ED4-8C57EB61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E6CEB3-6A97-4ED6-84E8-FA18DB611E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459B22-C4EE-4A57-BDA4-1E9EA613DA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0F4A0F-6CA1-45EC-9A8C-CD20DAF848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B67DE5-1FF7-41BC-A74D-8C7637E0FA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D20D6-3D3C-464A-B17E-6E1C72FAF2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5BB36E-E474-4C2A-A199-489C61FAA1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000186-20B3-473A-B0FD-8D8D90054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29C0E-F417-438F-8B66-94A506F6D1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BA1200-C6C7-4CE3-ABF9-9E21643FB5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1DBDB-0076-4242-92C9-94C58F4CF4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BD3C0-295A-4941-98CE-2B64F249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EAA754-9DD1-4BFD-B2E9-07FF338B91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008F1-96B2-4283-8A0C-1F8EDFB93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70D509-5831-474B-AB88-7432E4E252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2BDE01-6374-487A-A2D4-579F37EEFE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C43EB7-A48D-4E47-B0DB-DBCBC7BD8D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C9983A-ADB8-4311-A4ED-D1120F33F8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169E0C-1CEC-4153-B1CF-0937211E94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B53EBB-1D21-4347-AC2A-3B8A45447A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0AD33-5B8B-49DD-8F94-C4E12F8CFF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8960CB-4611-4007-A16B-C4B003F820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1369-0331-4171-B7C6-B0C9D24F7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B0C666-C060-4963-BF0D-6E4DF12DD0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61274-C367-45FE-870E-1B054B1C6E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897C5-21A8-437C-A614-8F37921B1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B5D33-C5F3-4B58-92FE-6323F4DB97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FFF78F-1385-438F-9169-1270B4438C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4C6C7B-17F2-40FB-8F13-0A1EAED2B1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F26B81-6878-475F-AD9F-E4571274CE5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2C4F-3EE4-4BA1-BB7E-A6F82E1C62B4}"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3240" cy="788400"/>
            </a:xfrm>
            <a:custGeom>
              <a:avLst/>
              <a:gdLst>
                <a:gd name="textAreaLeft" fmla="*/ 0 w 9093240"/>
                <a:gd name="textAreaRight" fmla="*/ 9093600 w 909324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29240" cy="1865880"/>
              <a:chOff x="8640" y="4998600"/>
              <a:chExt cx="9129240" cy="1865880"/>
            </a:xfrm>
          </p:grpSpPr>
          <p:pic>
            <p:nvPicPr>
              <p:cNvPr id="52" name="手繪多邊形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CA22-6183-415E-9C2E-36A2D1F92FC9}"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2108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AC42-FC44-4EF6-81DD-259C2A9B4D57}"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47E1-CFA5-47EA-9C99-CF5B5C3A1200}"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F736-34D3-4EAF-9BD9-F9C22EDC65BE}"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4F53-2DD5-45F2-B878-C8AE21BDA757}"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58A5-240F-42B7-9C8C-053601E36850}"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2108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77FD-7CBE-4A71-B8EB-8F9C1FE25B5D}"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689040" y="1700280"/>
            <a:ext cx="7772400" cy="190188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50800" y="836640"/>
          <a:ext cx="8209080" cy="4565520"/>
        </p:xfrm>
        <a:graphic>
          <a:graphicData uri="http://schemas.openxmlformats.org/drawingml/2006/table">
            <a:tbl>
              <a:tblPr/>
              <a:tblGrid>
                <a:gridCol w="378000"/>
                <a:gridCol w="857160"/>
                <a:gridCol w="642960"/>
                <a:gridCol w="642960"/>
                <a:gridCol w="1285920"/>
                <a:gridCol w="1509480"/>
                <a:gridCol w="2892600"/>
              </a:tblGrid>
              <a:tr h="792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3</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407880" y="115920"/>
            <a:ext cx="8229600" cy="719280"/>
          </a:xfrm>
          <a:prstGeom prst="rect">
            <a:avLst/>
          </a:prstGeom>
          <a:ln w="0">
            <a:noFill/>
          </a:ln>
        </p:spPr>
      </p:pic>
      <p:sp>
        <p:nvSpPr>
          <p:cNvPr id="395" name="矩形 5"/>
          <p:cNvSpPr/>
          <p:nvPr/>
        </p:nvSpPr>
        <p:spPr>
          <a:xfrm>
            <a:off x="5219640" y="275904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6" name="矩形 8"/>
          <p:cNvSpPr/>
          <p:nvPr/>
        </p:nvSpPr>
        <p:spPr>
          <a:xfrm>
            <a:off x="5148360" y="4537080"/>
            <a:ext cx="992160" cy="865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397"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399"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六條不續聘之情事。</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教師法第三十條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  </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          </a:t>
            </a:r>
            <a:r>
              <a:rPr b="0" lang="zh-TW" sz="2400" spc="-1" strike="noStrike">
                <a:solidFill>
                  <a:srgbClr val="262626"/>
                </a:solidFill>
                <a:latin typeface="微軟正黑體"/>
              </a:rPr>
              <a:t>施行後入學之公費學生，於義務服務期間。</a:t>
            </a:r>
            <a:endParaRPr b="0" lang="en-US" sz="2400" spc="-1" strike="noStrike">
              <a:solidFill>
                <a:srgbClr val="000000"/>
              </a:solidFill>
              <a:latin typeface="Lucida Sans Unicode"/>
            </a:endParaRPr>
          </a:p>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79280" y="1125360"/>
            <a:ext cx="8794800" cy="561672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教師因非自願超額調校或裁併校之情事，致未能符合上開規定在現職學校實際服務滿六學期以上者，其於原校與現職學校之實際服務年資應予併計。</a:t>
            </a:r>
            <a:endParaRPr b="0" lang="en-US" sz="2400" spc="-1" strike="noStrike">
              <a:solidFill>
                <a:srgbClr val="000000"/>
              </a:solidFill>
              <a:latin typeface="Lucida Sans Unicode"/>
            </a:endParaRPr>
          </a:p>
          <a:p>
            <a:pPr marL="272880" indent="-27288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標題 1" descr=""/>
          <p:cNvPicPr/>
          <p:nvPr/>
        </p:nvPicPr>
        <p:blipFill>
          <a:blip r:embed="rId1"/>
          <a:stretch/>
        </p:blipFill>
        <p:spPr>
          <a:xfrm>
            <a:off x="469800" y="115920"/>
            <a:ext cx="8229600" cy="10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9</a:t>
            </a:r>
            <a:r>
              <a:rPr b="0" lang="zh-TW" sz="2700" spc="-1" strike="noStrike">
                <a:solidFill>
                  <a:srgbClr val="262626"/>
                </a:solidFill>
                <a:latin typeface="微軟正黑體"/>
              </a:rPr>
              <a:t>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10</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10</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29</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4-108</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5</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r>
              <a:rPr b="1" lang="en-US" sz="2700" spc="-1" strike="noStrike">
                <a:solidFill>
                  <a:srgbClr val="00ccff"/>
                </a:solidFill>
                <a:latin typeface="微軟正黑體"/>
              </a:rPr>
              <a:t>-110</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29</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05" name="標題 1" descr=""/>
          <p:cNvPicPr/>
          <p:nvPr/>
        </p:nvPicPr>
        <p:blipFill>
          <a:blip r:embed="rId1"/>
          <a:stretch/>
        </p:blipFill>
        <p:spPr>
          <a:xfrm>
            <a:off x="396720" y="115920"/>
            <a:ext cx="822960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179280" y="1341360"/>
          <a:ext cx="8785440" cy="5029200"/>
        </p:xfrm>
        <a:graphic>
          <a:graphicData uri="http://schemas.openxmlformats.org/drawingml/2006/table">
            <a:tbl>
              <a:tblPr/>
              <a:tblGrid>
                <a:gridCol w="703440"/>
                <a:gridCol w="809640"/>
                <a:gridCol w="1655640"/>
                <a:gridCol w="561672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備註</a:t>
                      </a:r>
                      <a:r>
                        <a:rPr b="1" lang="en-US" sz="1800" spc="-1" strike="noStrike">
                          <a:solidFill>
                            <a:srgbClr val="ffffff"/>
                          </a:solidFill>
                          <a:latin typeface="Lucida Sans Unicode"/>
                          <a:ea typeface="微軟正黑體"/>
                        </a:rPr>
                        <a:t>(5/11</a:t>
                      </a:r>
                      <a:r>
                        <a:rPr b="1" lang="zh-TW" sz="1800" spc="-1" strike="noStrike">
                          <a:solidFill>
                            <a:srgbClr val="ffffff"/>
                          </a:solidFill>
                          <a:latin typeface="Lucida Sans Unicode"/>
                          <a:ea typeface="微軟正黑體"/>
                        </a:rPr>
                        <a:t>辦理縣內介聘、</a:t>
                      </a:r>
                      <a:r>
                        <a:rPr b="1" lang="en-US" sz="1800" spc="-1" strike="noStrike">
                          <a:solidFill>
                            <a:srgbClr val="ffffff"/>
                          </a:solidFill>
                          <a:latin typeface="Lucida Sans Unicode"/>
                          <a:ea typeface="微軟正黑體"/>
                        </a:rPr>
                        <a:t>6/11</a:t>
                      </a:r>
                      <a:r>
                        <a:rPr b="1" lang="zh-TW" sz="1800" spc="-1" strike="noStrike">
                          <a:solidFill>
                            <a:srgbClr val="ffffff"/>
                          </a:solidFill>
                          <a:latin typeface="Lucida Sans Unicode"/>
                          <a:ea typeface="微軟正黑體"/>
                        </a:rPr>
                        <a:t>辦理超額教師介聘</a:t>
                      </a:r>
                      <a:r>
                        <a:rPr b="1" lang="en-US" sz="1800" spc="-1" strike="noStrike">
                          <a:solidFill>
                            <a:srgbClr val="ffffff"/>
                          </a:solidFill>
                          <a:latin typeface="Lucida Sans Unicode"/>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2012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按科別、積分依序唱名介聘，未親自到場或未委託他人到場者，改列各科最後名次辦理，該科介聘結束後到場者不予受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申請介聘教師積分相同時，以年齡</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年長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服務年資</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資深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r>
              <a:tr h="173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各校請於</a:t>
                      </a:r>
                      <a:r>
                        <a:rPr b="0" lang="en-US" sz="1800" spc="-1" strike="noStrike">
                          <a:solidFill>
                            <a:srgbClr val="000000"/>
                          </a:solidFill>
                          <a:latin typeface="Lucida Sans Unicode"/>
                          <a:ea typeface="微軟正黑體"/>
                        </a:rPr>
                        <a:t>110.5.13</a:t>
                      </a:r>
                      <a:r>
                        <a:rPr b="0" lang="zh-TW" sz="1800" spc="-1" strike="noStrike">
                          <a:solidFill>
                            <a:srgbClr val="000000"/>
                          </a:solidFill>
                          <a:latin typeface="Lucida Sans Unicode"/>
                          <a:ea typeface="微軟正黑體"/>
                        </a:rPr>
                        <a:t>及</a:t>
                      </a:r>
                      <a:r>
                        <a:rPr b="0" lang="en-US" sz="1800" spc="-1" strike="noStrike">
                          <a:solidFill>
                            <a:srgbClr val="000000"/>
                          </a:solidFill>
                          <a:latin typeface="Lucida Sans Unicode"/>
                          <a:ea typeface="微軟正黑體"/>
                        </a:rPr>
                        <a:t>110.6.17</a:t>
                      </a:r>
                      <a:r>
                        <a:rPr b="0" lang="zh-TW" sz="1800" spc="-1" strike="noStrike">
                          <a:solidFill>
                            <a:srgbClr val="000000"/>
                          </a:solidFill>
                          <a:latin typeface="Lucida Sans Unicode"/>
                          <a:ea typeface="微軟正黑體"/>
                        </a:rPr>
                        <a:t>下午</a:t>
                      </a:r>
                      <a:r>
                        <a:rPr b="0" lang="en-US" sz="1800" spc="-1" strike="noStrike">
                          <a:solidFill>
                            <a:srgbClr val="000000"/>
                          </a:solidFill>
                          <a:latin typeface="Lucida Sans Unicode"/>
                          <a:ea typeface="微軟正黑體"/>
                        </a:rPr>
                        <a:t>3</a:t>
                      </a:r>
                      <a:r>
                        <a:rPr b="0" lang="zh-TW" sz="1800" spc="-1" strike="noStrike">
                          <a:solidFill>
                            <a:srgbClr val="000000"/>
                          </a:solidFill>
                          <a:latin typeface="Lucida Sans Unicode"/>
                          <a:ea typeface="微軟正黑體"/>
                        </a:rPr>
                        <a:t>時前將審查結果回條傳真埔心國中彙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r>
                        <a:rPr b="1" lang="zh-TW" sz="1800" spc="-1" strike="noStrike">
                          <a:solidFill>
                            <a:srgbClr val="000000"/>
                          </a:solidFill>
                          <a:latin typeface="微軟正黑體"/>
                          <a:ea typeface="微軟正黑體"/>
                        </a:rPr>
                        <a:t>申請縣內介教師如同時申請縣外介聘，縣內介聘成功欲放棄申請縣外介聘者，應當場提交撤銷申請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pic>
        <p:nvPicPr>
          <p:cNvPr id="407"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內容版面配置區 3" descr=""/>
          <p:cNvPicPr/>
          <p:nvPr/>
        </p:nvPicPr>
        <p:blipFill>
          <a:blip r:embed="rId1"/>
          <a:stretch/>
        </p:blipFill>
        <p:spPr>
          <a:xfrm>
            <a:off x="244440" y="1268280"/>
            <a:ext cx="8710560" cy="4175280"/>
          </a:xfrm>
          <a:prstGeom prst="rect">
            <a:avLst/>
          </a:prstGeom>
          <a:ln w="0">
            <a:noFill/>
          </a:ln>
        </p:spPr>
      </p:pic>
      <p:pic>
        <p:nvPicPr>
          <p:cNvPr id="409" name="標題 1" descr=""/>
          <p:cNvPicPr/>
          <p:nvPr/>
        </p:nvPicPr>
        <p:blipFill>
          <a:blip r:embed="rId2"/>
          <a:stretch/>
        </p:blipFill>
        <p:spPr>
          <a:xfrm>
            <a:off x="365040" y="115920"/>
            <a:ext cx="8229600" cy="1152360"/>
          </a:xfrm>
          <a:prstGeom prst="rect">
            <a:avLst/>
          </a:prstGeom>
          <a:ln w="0">
            <a:noFill/>
          </a:ln>
        </p:spPr>
      </p:pic>
      <p:sp>
        <p:nvSpPr>
          <p:cNvPr id="410"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9.10.30</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77240" cy="5486400"/>
        </p:xfrm>
        <a:graphic>
          <a:graphicData uri="http://schemas.openxmlformats.org/drawingml/2006/table">
            <a:tbl>
              <a:tblPr/>
              <a:tblGrid>
                <a:gridCol w="774720"/>
                <a:gridCol w="4249800"/>
                <a:gridCol w="385272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1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回傳缺額調查表</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含縣內介聘缺及縣外介聘缺</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至教育處</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2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缺額表</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4-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內、外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申請教師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縣內介聘公開作業及書面互調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埔心國中，縣內介聘可委託辦理</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縣內介聘成功教師放棄縣外介聘申請</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縣內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提報超額教師名單傳真埔心國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超缺額調查表傳真教育處學管科</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79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4</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教師超額介聘積分審查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介聘缺額表及超額介聘申請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介聘公開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埔心國中，超額介聘不可委託辦理</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bl>
          </a:graphicData>
        </a:graphic>
      </p:graphicFrame>
      <p:pic>
        <p:nvPicPr>
          <p:cNvPr id="373" name="標題 1" descr=""/>
          <p:cNvPicPr/>
          <p:nvPr/>
        </p:nvPicPr>
        <p:blipFill>
          <a:blip r:embed="rId1"/>
          <a:stretch/>
        </p:blipFill>
        <p:spPr>
          <a:xfrm>
            <a:off x="469800" y="115920"/>
            <a:ext cx="8229600" cy="7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5</a:t>
            </a:r>
            <a:r>
              <a:rPr b="1" lang="zh-TW" sz="2800" spc="-1" strike="noStrike">
                <a:solidFill>
                  <a:srgbClr val="ff0000"/>
                </a:solidFill>
                <a:latin typeface="微軟正黑體"/>
              </a:rPr>
              <a:t>月</a:t>
            </a:r>
            <a:r>
              <a:rPr b="1" lang="en-US" sz="2800" spc="-1" strike="noStrike">
                <a:solidFill>
                  <a:srgbClr val="ff0000"/>
                </a:solidFill>
                <a:latin typeface="微軟正黑體"/>
              </a:rPr>
              <a:t>5</a:t>
            </a:r>
            <a:r>
              <a:rPr b="1" lang="zh-TW" sz="2800" spc="-1" strike="noStrike">
                <a:solidFill>
                  <a:srgbClr val="ff0000"/>
                </a:solidFill>
                <a:latin typeface="微軟正黑體"/>
              </a:rPr>
              <a:t>日及</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6</a:t>
            </a:r>
            <a:r>
              <a:rPr b="1" lang="zh-TW" sz="2800" spc="-1" strike="noStrike">
                <a:solidFill>
                  <a:srgbClr val="ff0000"/>
                </a:solidFill>
                <a:latin typeface="微軟正黑體"/>
              </a:rPr>
              <a:t>月</a:t>
            </a:r>
            <a:r>
              <a:rPr b="1" lang="en-US" sz="2800" spc="-1" strike="noStrike">
                <a:solidFill>
                  <a:srgbClr val="ff0000"/>
                </a:solidFill>
                <a:latin typeface="微軟正黑體"/>
              </a:rPr>
              <a:t>4</a:t>
            </a:r>
            <a:r>
              <a:rPr b="1" lang="zh-TW" sz="2800" spc="-1" strike="noStrike">
                <a:solidFill>
                  <a:srgbClr val="ff0000"/>
                </a:solidFill>
                <a:latin typeface="微軟正黑體"/>
              </a:rPr>
              <a:t>日下午</a:t>
            </a:r>
            <a:r>
              <a:rPr b="1" lang="en-US" sz="2800" spc="-1" strike="noStrike">
                <a:solidFill>
                  <a:srgbClr val="ff0000"/>
                </a:solidFill>
                <a:latin typeface="微軟正黑體"/>
              </a:rPr>
              <a:t>4</a:t>
            </a:r>
            <a:r>
              <a:rPr b="1" lang="zh-TW" sz="2800" spc="-1" strike="noStrike">
                <a:solidFill>
                  <a:srgbClr val="ff0000"/>
                </a:solidFill>
                <a:latin typeface="微軟正黑體"/>
              </a:rPr>
              <a:t>時前</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280" y="1600200"/>
            <a:ext cx="856944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r>
              <a:rPr b="0" lang="en-US" sz="2700" spc="-1" strike="noStrike">
                <a:solidFill>
                  <a:srgbClr val="000000"/>
                </a:solidFill>
                <a:latin typeface="微軟正黑體"/>
              </a:rPr>
              <a:t>(P7-10)</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r>
              <a:rPr b="0" lang="en-US" sz="2700" spc="-1" strike="noStrike">
                <a:solidFill>
                  <a:srgbClr val="000000"/>
                </a:solidFill>
                <a:latin typeface="微軟正黑體"/>
              </a:rPr>
              <a:t>(P11)</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r>
              <a:rPr b="0" lang="en-US" sz="2700" spc="-1" strike="noStrike">
                <a:solidFill>
                  <a:srgbClr val="000000"/>
                </a:solidFill>
                <a:latin typeface="微軟正黑體"/>
              </a:rPr>
              <a:t>(P12)</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79"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微軟正黑體"/>
              </a:rPr>
              <a:t>超額</a:t>
            </a:r>
            <a:r>
              <a:rPr b="1" lang="zh-TW" sz="2700" spc="-1" strike="noStrike">
                <a:solidFill>
                  <a:srgbClr val="000000"/>
                </a:solidFill>
                <a:latin typeface="微軟正黑體"/>
              </a:rPr>
              <a:t>與</a:t>
            </a:r>
            <a:r>
              <a:rPr b="1" lang="zh-TW" sz="2700" spc="-1" strike="noStrike" u="sng">
                <a:solidFill>
                  <a:srgbClr val="0000cc"/>
                </a:solidFill>
                <a:uFillTx/>
                <a:latin typeface="微軟正黑體"/>
              </a:rPr>
              <a:t>縣內介聘</a:t>
            </a:r>
            <a:r>
              <a:rPr b="1" lang="zh-TW" sz="2700" spc="-1" strike="noStrike">
                <a:solidFill>
                  <a:srgbClr val="ff0000"/>
                </a:solidFill>
                <a:latin typeface="微軟正黑體"/>
              </a:rPr>
              <a:t>申請表不同</a:t>
            </a:r>
            <a:r>
              <a:rPr b="1" lang="zh-TW" sz="2700" spc="-1" strike="noStrike">
                <a:solidFill>
                  <a:srgbClr val="000000"/>
                </a:solidFill>
                <a:latin typeface="微軟正黑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上</a:t>
            </a:r>
            <a:r>
              <a:rPr b="1" lang="zh-TW" sz="2700" spc="-1" strike="noStrike">
                <a:solidFill>
                  <a:srgbClr val="000000"/>
                </a:solidFill>
                <a:latin typeface="微軟正黑體"/>
              </a:rPr>
              <a:t>申請人、人事主管、校長</a:t>
            </a:r>
            <a:r>
              <a:rPr b="0" lang="zh-TW" sz="2700" spc="-1" strike="noStrike">
                <a:solidFill>
                  <a:srgbClr val="000000"/>
                </a:solidFill>
                <a:latin typeface="微軟正黑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自行至縣府雲端或介聘天地下載，</a:t>
            </a:r>
            <a:r>
              <a:rPr b="0" lang="zh-TW" sz="2700" spc="-1" strike="noStrike" u="sng">
                <a:solidFill>
                  <a:srgbClr val="000000"/>
                </a:solidFill>
                <a:uFillTx/>
                <a:latin typeface="微軟正黑體"/>
              </a:rPr>
              <a:t>印成</a:t>
            </a:r>
            <a:r>
              <a:rPr b="1" lang="en-US" sz="2700" spc="-1" strike="noStrike" u="sng">
                <a:solidFill>
                  <a:srgbClr val="ff0000"/>
                </a:solidFill>
                <a:uFillTx/>
                <a:latin typeface="微軟正黑體"/>
              </a:rPr>
              <a:t>A3</a:t>
            </a:r>
            <a:r>
              <a:rPr b="0" lang="zh-TW" sz="2700" spc="-1" strike="noStrike" u="sng">
                <a:solidFill>
                  <a:srgbClr val="000000"/>
                </a:solidFill>
                <a:uFillTx/>
                <a:latin typeface="微軟正黑體"/>
              </a:rPr>
              <a:t>大小</a:t>
            </a:r>
            <a:r>
              <a:rPr b="0" lang="zh-TW" sz="2700" spc="-1" strike="noStrike">
                <a:solidFill>
                  <a:srgbClr val="000000"/>
                </a:solidFill>
                <a:latin typeface="微軟正黑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標題 1" descr=""/>
          <p:cNvPicPr/>
          <p:nvPr/>
        </p:nvPicPr>
        <p:blipFill>
          <a:blip r:embed="rId1"/>
          <a:stretch/>
        </p:blipFill>
        <p:spPr>
          <a:xfrm>
            <a:off x="457200" y="274680"/>
            <a:ext cx="8229600" cy="1157400"/>
          </a:xfrm>
          <a:prstGeom prst="rect">
            <a:avLst/>
          </a:prstGeom>
          <a:ln w="0">
            <a:noFill/>
          </a:ln>
        </p:spPr>
      </p:pic>
      <p:sp>
        <p:nvSpPr>
          <p:cNvPr id="383"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4" name="圓角矩形 5"/>
          <p:cNvSpPr/>
          <p:nvPr/>
        </p:nvSpPr>
        <p:spPr>
          <a:xfrm>
            <a:off x="844560" y="2744640"/>
            <a:ext cx="7632720" cy="13687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或開縣外介聘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298440" y="1413000"/>
          <a:ext cx="8424720" cy="4322520"/>
        </p:xfrm>
        <a:graphic>
          <a:graphicData uri="http://schemas.openxmlformats.org/drawingml/2006/table">
            <a:tbl>
              <a:tblPr/>
              <a:tblGrid>
                <a:gridCol w="360360"/>
                <a:gridCol w="1079640"/>
                <a:gridCol w="720720"/>
                <a:gridCol w="647640"/>
                <a:gridCol w="1152360"/>
                <a:gridCol w="1465200"/>
                <a:gridCol w="299880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10</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86" name="標題 1" descr=""/>
          <p:cNvPicPr/>
          <p:nvPr/>
        </p:nvPicPr>
        <p:blipFill>
          <a:blip r:embed="rId1"/>
          <a:stretch/>
        </p:blipFill>
        <p:spPr>
          <a:xfrm>
            <a:off x="506520" y="189000"/>
            <a:ext cx="8229600" cy="1139760"/>
          </a:xfrm>
          <a:prstGeom prst="rect">
            <a:avLst/>
          </a:prstGeom>
          <a:ln w="0">
            <a:noFill/>
          </a:ln>
        </p:spPr>
      </p:pic>
      <p:sp>
        <p:nvSpPr>
          <p:cNvPr id="387" name="圓角矩形 4"/>
          <p:cNvSpPr/>
          <p:nvPr/>
        </p:nvSpPr>
        <p:spPr>
          <a:xfrm>
            <a:off x="2340000" y="2279520"/>
            <a:ext cx="3384360" cy="3456000"/>
          </a:xfrm>
          <a:custGeom>
            <a:avLst/>
            <a:gdLst>
              <a:gd name="textAreaLeft" fmla="*/ 164880 w 3384360"/>
              <a:gd name="textAreaRight" fmla="*/ 3219480 w 3384360"/>
              <a:gd name="textAreaTop" fmla="*/ 164880 h 3456000"/>
              <a:gd name="textAreaBottom" fmla="*/ 3291120 h 3456000"/>
            </a:gdLst>
            <a:ahLst/>
            <a:rect l="textAreaLeft" t="textAreaTop" r="textAreaRight" b="textAreaBottom"/>
            <a:pathLst>
              <a:path w="21600" h="22057">
                <a:moveTo>
                  <a:pt x="3600" y="0"/>
                </a:moveTo>
                <a:arcTo wR="3600" hR="3600" stAng="16200000" swAng="-5400000"/>
                <a:lnTo>
                  <a:pt x="0" y="18457"/>
                </a:lnTo>
                <a:arcTo wR="3600" hR="3600" stAng="10800000" swAng="-5400000"/>
                <a:lnTo>
                  <a:pt x="18000" y="22057"/>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現有</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任輔導教師</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511280"/>
                <a:gridCol w="2952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5</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89" name="標題 1" descr=""/>
          <p:cNvPicPr/>
          <p:nvPr/>
        </p:nvPicPr>
        <p:blipFill>
          <a:blip r:embed="rId1"/>
          <a:stretch/>
        </p:blipFill>
        <p:spPr>
          <a:xfrm>
            <a:off x="487440" y="115920"/>
            <a:ext cx="8229600" cy="938160"/>
          </a:xfrm>
          <a:prstGeom prst="rect">
            <a:avLst/>
          </a:prstGeom>
          <a:ln w="0">
            <a:noFill/>
          </a:ln>
        </p:spPr>
      </p:pic>
      <p:sp>
        <p:nvSpPr>
          <p:cNvPr id="390"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1" name="矩形 6"/>
          <p:cNvSpPr/>
          <p:nvPr/>
        </p:nvSpPr>
        <p:spPr>
          <a:xfrm>
            <a:off x="5075280" y="292428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2" name="矩形 8"/>
          <p:cNvSpPr/>
          <p:nvPr/>
        </p:nvSpPr>
        <p:spPr>
          <a:xfrm>
            <a:off x="5580000" y="4753080"/>
            <a:ext cx="100800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蔡穎逸</cp:lastModifiedBy>
  <cp:lastPrinted>2021-03-30T09:33:53Z</cp:lastPrinted>
  <dcterms:modified xsi:type="dcterms:W3CDTF">2021-03-31T03:10:49Z</dcterms:modified>
  <cp:revision>149</cp:revision>
  <dc:subject/>
  <dc:title>PowerPoint 簡報</dc:title>
</cp:coreProperties>
</file>