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F3494-682E-4DC3-87F4-CB71FF8FD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1AD1-7053-483C-B6B3-F3BA57E08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10F38-AE59-47F2-9E55-C0BE507B7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ED81B-7CEF-4A78-8476-29E1D87AF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501AC-0FC6-44C8-A95A-0B98A87E7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3E4C4-6D76-47D5-AA7D-1F42229AF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0CA22-35C9-4B02-B95C-83AF34C59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47966-A2EC-4FFA-AAB3-B38F005D6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C37BB-8643-4889-B482-D0C839EFD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8F9CD-2002-4B62-ACDA-F4AF63A13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B34AD-7569-4895-8DF1-EE7511117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3AAE-2E62-4D52-94F3-578C6F53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A5B57-343B-4B48-AF43-A4A562B45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EC9D1-784D-4C79-B119-685A24E57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7AFC2-B3F3-4EE1-8A77-13B2BD817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CA4F5-109C-463F-B7FD-962628943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41256-0A1E-4627-9582-88B8D6D4C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5B4B1-D58F-4ED3-8C80-506861C6D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B421D-00F5-45A3-85F8-8E5406DF9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0061C9-2768-4A90-9E0F-20A5ED102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A5C9F-D279-4F11-97C6-510F4A1A0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91B3E-9CC6-4D67-96EA-86E35F660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D066-53F8-40FB-95F4-123043B9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3CD47-CB13-433F-A86B-BAF8A757A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0E83A-F1F8-4B8C-8BF8-75DF1C7FA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A0729-86F2-48DA-9AD6-B2F3536B4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931E5-C31E-43FC-A4EC-02BEF8E7A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55CFC-178E-4B8C-9947-05E7CB2C1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89975-1F70-400F-B20B-8361937EA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FE5387-18B1-49B0-97B4-66CD38FA19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E19EB9-5ACD-4B53-8A3D-3E43C15B84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D55A9-0DC1-46B1-93CC-35BB3D246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82FA2-217E-4EC6-A633-38226BB0F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049A-22B5-4BEC-BBC2-ACA4BAC6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1F75A-5C64-408C-AB9E-FC7F2731F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4090F-5326-4313-940F-1A9826895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4310B-A947-41E2-B9FF-6BC8F4B71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40106-C7D3-4073-B920-71A0C366A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28358-AF9E-405F-A1E6-AAFA7DB7D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1532F-B927-41B8-A280-BEBA3E696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A2417-03E8-4BA8-B8EC-BC357C8911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28BC4D-CD22-4C32-8659-C1406452C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6918D-3FE2-4DA5-A22F-E44BA16A5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0AC58-366F-4A09-8BBF-6C49EC87E0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A516-FB25-4341-89A3-EF42DA850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773D2-4480-4674-9E16-200E12CAE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91CD9-143E-46CD-A64B-12DA04E3D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F3104-41E0-4767-8C77-67BC3155D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97DDC-0375-4E8E-82FA-9D93622A9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E03EA-345E-4416-98C3-874379F00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24F0E-5D56-4D84-9509-16AB623F1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093F8-A760-4AB1-A8C1-FC9B47F56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C0EF4-BEFD-48A0-BD72-707D0BCDF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A7AEF7-8149-4412-AD97-5293B86B2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4DD08-A74E-4428-A708-60E287232C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49AD1-6AA5-47B1-916A-592C9729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6C77C5-86A7-40C7-888D-1A9844E572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E3180C-3094-41E5-B80E-059358F97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859F8-CA41-4361-B927-166840E58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57434-C143-4F2F-BC3E-8BAB34DBA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542B6-1A7A-46AE-B765-C458CD0D9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613AA-BFF1-4C31-A771-8040F7784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367BF-DBC0-4819-B31A-56A0BD3F5A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996B1-78E9-4AA3-B93F-612A4B89C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7F70B-1DA0-4C22-9227-CAFB24E69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D16C2-297C-46AD-AF23-CA9F360F5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6D39-9826-4756-AF76-B4DB57CB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48F03-4E3B-42AE-9BC4-84CFDC2C5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75FABD-03C6-49BD-B981-207323D6E1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06CC15-5E11-4968-9F8A-92D5FFB616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CDB9D0-2CE1-4509-A5F1-9B2B5A552E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88C9C-131D-4487-9035-AFF1FF1BD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AFA13-3B57-47EF-B14E-AAD209D4B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347C8B-3DFF-4B45-95A4-73E924E5C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37A19B-557C-4833-B685-E7396F8189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31C901-BE39-4DE0-A5B3-DE66FCED7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5D867-B558-40ED-BB0B-09E41F916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B0AA-37FD-49EA-AB55-8440E8CB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64D56-79A9-4A3D-B5C4-53213EDD9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9488B-193D-4DE2-B608-9C1678EB5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D0A45-0FE2-4573-97B4-277545F8D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E36D09-972A-4E7C-BE77-88D3D6515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CEC2CD-6A8D-4C1D-934E-A5EFAF140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BCE2DB-1D02-4D3D-8DB7-C49A8ACACC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FE22B-2A3A-4567-9A4D-007D6353D1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017C56-72CC-4FD8-BF27-C1F2C46DEE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D43928-FBF6-4CAC-9EBF-BB5671D0E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30E28D-796A-4BA2-BB1F-4FA712E9CB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5F08-D522-4577-9EB3-779474920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E88AFA-6AB4-4973-848F-1109EC0468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00553-DD46-463E-94B8-2BA9F68FD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D12FE-BB5E-4FC1-9DB6-30727AA28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63AAFF-67CA-4711-9639-214CC5932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80CD3-C591-4128-86AB-1C6B71E4F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AD9D5A-9707-4B6C-B212-DA8CBD096E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54E790-6D50-4186-9A74-8A3BCE56ABC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43BC-E26B-41AE-AD22-7EC2F56C24A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29240" cy="1865880"/>
              <a:chOff x="8640" y="4998600"/>
              <a:chExt cx="9129240" cy="1865880"/>
            </a:xfrm>
          </p:grpSpPr>
          <p:pic>
            <p:nvPicPr>
              <p:cNvPr id="52" name="手繪多邊形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CD18-AD41-414A-A8AB-A3B4FE20140E}"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2108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E0F5-EC8F-4EC1-A332-4872B62789DD}"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1BC1-8E95-4308-8B86-9AAC291B93F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C34C-8DBE-4FD8-A329-03C479F6AF46}"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72B1-F437-41BA-80CA-CD80165DA80B}"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7B78-A0E0-4C88-9DFE-D7635205EAFD}"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2108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216B-893A-4987-BC89-0B70E7570A69}"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689040" y="1700280"/>
            <a:ext cx="7772400" cy="190188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50800" y="836640"/>
          <a:ext cx="8209080" cy="4565520"/>
        </p:xfrm>
        <a:graphic>
          <a:graphicData uri="http://schemas.openxmlformats.org/drawingml/2006/table">
            <a:tbl>
              <a:tblPr/>
              <a:tblGrid>
                <a:gridCol w="378000"/>
                <a:gridCol w="857160"/>
                <a:gridCol w="642960"/>
                <a:gridCol w="642960"/>
                <a:gridCol w="1285920"/>
                <a:gridCol w="1509480"/>
                <a:gridCol w="2892600"/>
              </a:tblGrid>
              <a:tr h="792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3</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407880" y="115920"/>
            <a:ext cx="8229600" cy="719280"/>
          </a:xfrm>
          <a:prstGeom prst="rect">
            <a:avLst/>
          </a:prstGeom>
          <a:ln w="0">
            <a:noFill/>
          </a:ln>
        </p:spPr>
      </p:pic>
      <p:sp>
        <p:nvSpPr>
          <p:cNvPr id="395" name="矩形 5"/>
          <p:cNvSpPr/>
          <p:nvPr/>
        </p:nvSpPr>
        <p:spPr>
          <a:xfrm>
            <a:off x="5219640" y="275904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6" name="矩形 8"/>
          <p:cNvSpPr/>
          <p:nvPr/>
        </p:nvSpPr>
        <p:spPr>
          <a:xfrm>
            <a:off x="5148360" y="4537080"/>
            <a:ext cx="992160" cy="865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397"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9"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六條不續聘之情事。</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教師法第三十條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  </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          </a:t>
            </a:r>
            <a:r>
              <a:rPr b="0" lang="zh-TW" sz="2400" spc="-1" strike="noStrike">
                <a:solidFill>
                  <a:srgbClr val="262626"/>
                </a:solidFill>
                <a:latin typeface="微軟正黑體"/>
              </a:rPr>
              <a:t>施行後入學之公費學生，於義務服務期間。</a:t>
            </a:r>
            <a:endParaRPr b="0" lang="en-US" sz="2400" spc="-1" strike="noStrike">
              <a:solidFill>
                <a:srgbClr val="000000"/>
              </a:solidFill>
              <a:latin typeface="Lucida Sans Unicode"/>
            </a:endParaRPr>
          </a:p>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1125360"/>
            <a:ext cx="8794800" cy="561672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教師因非自願超額調校或裁併校之情事，致未能符合上開規定在現職學校實際服務滿六學期以上者，其於原校與現職學校之實際服務年資應予併計。</a:t>
            </a:r>
            <a:endParaRPr b="0" lang="en-US" sz="2400" spc="-1" strike="noStrike">
              <a:solidFill>
                <a:srgbClr val="000000"/>
              </a:solidFill>
              <a:latin typeface="Lucida Sans Unicode"/>
            </a:endParaRPr>
          </a:p>
          <a:p>
            <a:pPr marL="272880" indent="-27288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標題 1" descr=""/>
          <p:cNvPicPr/>
          <p:nvPr/>
        </p:nvPicPr>
        <p:blipFill>
          <a:blip r:embed="rId1"/>
          <a:stretch/>
        </p:blipFill>
        <p:spPr>
          <a:xfrm>
            <a:off x="469800" y="115920"/>
            <a:ext cx="822960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9</a:t>
            </a:r>
            <a:r>
              <a:rPr b="0" lang="zh-TW" sz="2700" spc="-1" strike="noStrike">
                <a:solidFill>
                  <a:srgbClr val="262626"/>
                </a:solidFill>
                <a:latin typeface="微軟正黑體"/>
              </a:rPr>
              <a:t>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10</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10</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29</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4-108</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5</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r>
              <a:rPr b="1" lang="en-US" sz="2700" spc="-1" strike="noStrike">
                <a:solidFill>
                  <a:srgbClr val="00ccff"/>
                </a:solidFill>
                <a:latin typeface="微軟正黑體"/>
              </a:rPr>
              <a:t>-110</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29</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05" name="標題 1" descr=""/>
          <p:cNvPicPr/>
          <p:nvPr/>
        </p:nvPicPr>
        <p:blipFill>
          <a:blip r:embed="rId1"/>
          <a:stretch/>
        </p:blipFill>
        <p:spPr>
          <a:xfrm>
            <a:off x="396720" y="11592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179280" y="1341360"/>
          <a:ext cx="8785440" cy="5029200"/>
        </p:xfrm>
        <a:graphic>
          <a:graphicData uri="http://schemas.openxmlformats.org/drawingml/2006/table">
            <a:tbl>
              <a:tblPr/>
              <a:tblGrid>
                <a:gridCol w="703440"/>
                <a:gridCol w="809640"/>
                <a:gridCol w="1655640"/>
                <a:gridCol w="5616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備註</a:t>
                      </a:r>
                      <a:r>
                        <a:rPr b="1" lang="en-US" sz="1800" spc="-1" strike="noStrike">
                          <a:solidFill>
                            <a:srgbClr val="ffffff"/>
                          </a:solidFill>
                          <a:latin typeface="Lucida Sans Unicode"/>
                          <a:ea typeface="微軟正黑體"/>
                        </a:rPr>
                        <a:t>(5/11</a:t>
                      </a:r>
                      <a:r>
                        <a:rPr b="1" lang="zh-TW" sz="1800" spc="-1" strike="noStrike">
                          <a:solidFill>
                            <a:srgbClr val="ffffff"/>
                          </a:solidFill>
                          <a:latin typeface="Lucida Sans Unicode"/>
                          <a:ea typeface="微軟正黑體"/>
                        </a:rPr>
                        <a:t>辦理縣內介聘、</a:t>
                      </a:r>
                      <a:r>
                        <a:rPr b="1" lang="en-US" sz="1800" spc="-1" strike="noStrike">
                          <a:solidFill>
                            <a:srgbClr val="ffffff"/>
                          </a:solidFill>
                          <a:latin typeface="Lucida Sans Unicode"/>
                          <a:ea typeface="微軟正黑體"/>
                        </a:rPr>
                        <a:t>6/11</a:t>
                      </a:r>
                      <a:r>
                        <a:rPr b="1" lang="zh-TW" sz="1800" spc="-1" strike="noStrike">
                          <a:solidFill>
                            <a:srgbClr val="ffffff"/>
                          </a:solidFill>
                          <a:latin typeface="Lucida Sans Unicode"/>
                          <a:ea typeface="微軟正黑體"/>
                        </a:rPr>
                        <a:t>辦理超額教師介聘</a:t>
                      </a:r>
                      <a:r>
                        <a:rPr b="1" lang="en-US" sz="1800" spc="-1" strike="noStrike">
                          <a:solidFill>
                            <a:srgbClr val="ffffff"/>
                          </a:solidFill>
                          <a:latin typeface="Lucida Sans Unicode"/>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012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按科別、積分依序唱名介聘，未親自到場或未委託他人到場者，改列各科最後名次辦理，該科介聘結束後到場者不予受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申請介聘教師積分相同時，以年齡</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年長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服務年資</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資深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r>
              <a:tr h="173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各校請於</a:t>
                      </a:r>
                      <a:r>
                        <a:rPr b="0" lang="en-US" sz="1800" spc="-1" strike="noStrike">
                          <a:solidFill>
                            <a:srgbClr val="000000"/>
                          </a:solidFill>
                          <a:latin typeface="Lucida Sans Unicode"/>
                          <a:ea typeface="微軟正黑體"/>
                        </a:rPr>
                        <a:t>110.5.13</a:t>
                      </a:r>
                      <a:r>
                        <a:rPr b="0" lang="zh-TW" sz="1800" spc="-1" strike="noStrike">
                          <a:solidFill>
                            <a:srgbClr val="000000"/>
                          </a:solidFill>
                          <a:latin typeface="Lucida Sans Unicode"/>
                          <a:ea typeface="微軟正黑體"/>
                        </a:rPr>
                        <a:t>及</a:t>
                      </a:r>
                      <a:r>
                        <a:rPr b="0" lang="en-US" sz="1800" spc="-1" strike="noStrike">
                          <a:solidFill>
                            <a:srgbClr val="000000"/>
                          </a:solidFill>
                          <a:latin typeface="Lucida Sans Unicode"/>
                          <a:ea typeface="微軟正黑體"/>
                        </a:rPr>
                        <a:t>110.6.17</a:t>
                      </a:r>
                      <a:r>
                        <a:rPr b="0" lang="zh-TW" sz="1800" spc="-1" strike="noStrike">
                          <a:solidFill>
                            <a:srgbClr val="000000"/>
                          </a:solidFill>
                          <a:latin typeface="Lucida Sans Unicode"/>
                          <a:ea typeface="微軟正黑體"/>
                        </a:rPr>
                        <a:t>下午</a:t>
                      </a:r>
                      <a:r>
                        <a:rPr b="0" lang="en-US" sz="1800" spc="-1" strike="noStrike">
                          <a:solidFill>
                            <a:srgbClr val="000000"/>
                          </a:solidFill>
                          <a:latin typeface="Lucida Sans Unicode"/>
                          <a:ea typeface="微軟正黑體"/>
                        </a:rPr>
                        <a:t>3</a:t>
                      </a:r>
                      <a:r>
                        <a:rPr b="0" lang="zh-TW" sz="1800" spc="-1" strike="noStrike">
                          <a:solidFill>
                            <a:srgbClr val="000000"/>
                          </a:solidFill>
                          <a:latin typeface="Lucida Sans Unicode"/>
                          <a:ea typeface="微軟正黑體"/>
                        </a:rPr>
                        <a:t>時前將審查結果回條傳真埔心國中彙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r>
                        <a:rPr b="1" lang="zh-TW" sz="1800" spc="-1" strike="noStrike">
                          <a:solidFill>
                            <a:srgbClr val="000000"/>
                          </a:solidFill>
                          <a:latin typeface="微軟正黑體"/>
                          <a:ea typeface="微軟正黑體"/>
                        </a:rPr>
                        <a:t>申請縣內介教師如同時申請縣外介聘，縣內介聘成功欲放棄申請縣外介聘者，應當場提交撤銷申請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407"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內容版面配置區 3" descr=""/>
          <p:cNvPicPr/>
          <p:nvPr/>
        </p:nvPicPr>
        <p:blipFill>
          <a:blip r:embed="rId1"/>
          <a:stretch/>
        </p:blipFill>
        <p:spPr>
          <a:xfrm>
            <a:off x="244440" y="1268280"/>
            <a:ext cx="8710560" cy="4175280"/>
          </a:xfrm>
          <a:prstGeom prst="rect">
            <a:avLst/>
          </a:prstGeom>
          <a:ln w="0">
            <a:noFill/>
          </a:ln>
        </p:spPr>
      </p:pic>
      <p:pic>
        <p:nvPicPr>
          <p:cNvPr id="409" name="標題 1" descr=""/>
          <p:cNvPicPr/>
          <p:nvPr/>
        </p:nvPicPr>
        <p:blipFill>
          <a:blip r:embed="rId2"/>
          <a:stretch/>
        </p:blipFill>
        <p:spPr>
          <a:xfrm>
            <a:off x="365040" y="115920"/>
            <a:ext cx="8229600" cy="1152360"/>
          </a:xfrm>
          <a:prstGeom prst="rect">
            <a:avLst/>
          </a:prstGeom>
          <a:ln w="0">
            <a:noFill/>
          </a:ln>
        </p:spPr>
      </p:pic>
      <p:sp>
        <p:nvSpPr>
          <p:cNvPr id="410"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9.10.30</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77240" cy="5486400"/>
        </p:xfrm>
        <a:graphic>
          <a:graphicData uri="http://schemas.openxmlformats.org/drawingml/2006/table">
            <a:tbl>
              <a:tblPr/>
              <a:tblGrid>
                <a:gridCol w="774720"/>
                <a:gridCol w="4249800"/>
                <a:gridCol w="385272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1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回傳缺額調查表</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含縣內介聘缺及縣外介聘缺</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至教育處</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2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缺額表</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4-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內、外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申請教師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縣內介聘公開作業及書面互調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埔心國中，縣內介聘可委託辦理</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縣內介聘成功教師放棄縣外介聘申請</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縣內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提報超額教師名單傳真埔心國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超缺額調查表傳真教育處學管科</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79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4</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教師超額介聘積分審查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介聘缺額表及超額介聘申請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介聘公開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埔心國中，超額介聘不可委託辦理</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bl>
          </a:graphicData>
        </a:graphic>
      </p:graphicFrame>
      <p:pic>
        <p:nvPicPr>
          <p:cNvPr id="373" name="標題 1" descr=""/>
          <p:cNvPicPr/>
          <p:nvPr/>
        </p:nvPicPr>
        <p:blipFill>
          <a:blip r:embed="rId1"/>
          <a:stretch/>
        </p:blipFill>
        <p:spPr>
          <a:xfrm>
            <a:off x="469800" y="115920"/>
            <a:ext cx="8229600" cy="7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5</a:t>
            </a:r>
            <a:r>
              <a:rPr b="1" lang="zh-TW" sz="2800" spc="-1" strike="noStrike">
                <a:solidFill>
                  <a:srgbClr val="ff0000"/>
                </a:solidFill>
                <a:latin typeface="微軟正黑體"/>
              </a:rPr>
              <a:t>月</a:t>
            </a:r>
            <a:r>
              <a:rPr b="1" lang="en-US" sz="2800" spc="-1" strike="noStrike">
                <a:solidFill>
                  <a:srgbClr val="ff0000"/>
                </a:solidFill>
                <a:latin typeface="微軟正黑體"/>
              </a:rPr>
              <a:t>5</a:t>
            </a:r>
            <a:r>
              <a:rPr b="1" lang="zh-TW" sz="2800" spc="-1" strike="noStrike">
                <a:solidFill>
                  <a:srgbClr val="ff0000"/>
                </a:solidFill>
                <a:latin typeface="微軟正黑體"/>
              </a:rPr>
              <a:t>日及</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6</a:t>
            </a:r>
            <a:r>
              <a:rPr b="1" lang="zh-TW" sz="2800" spc="-1" strike="noStrike">
                <a:solidFill>
                  <a:srgbClr val="ff0000"/>
                </a:solidFill>
                <a:latin typeface="微軟正黑體"/>
              </a:rPr>
              <a:t>月</a:t>
            </a:r>
            <a:r>
              <a:rPr b="1" lang="en-US" sz="2800" spc="-1" strike="noStrike">
                <a:solidFill>
                  <a:srgbClr val="ff0000"/>
                </a:solidFill>
                <a:latin typeface="微軟正黑體"/>
              </a:rPr>
              <a:t>4</a:t>
            </a:r>
            <a:r>
              <a:rPr b="1" lang="zh-TW" sz="2800" spc="-1" strike="noStrike">
                <a:solidFill>
                  <a:srgbClr val="ff0000"/>
                </a:solidFill>
                <a:latin typeface="微軟正黑體"/>
              </a:rPr>
              <a:t>日下午</a:t>
            </a:r>
            <a:r>
              <a:rPr b="1" lang="en-US" sz="2800" spc="-1" strike="noStrike">
                <a:solidFill>
                  <a:srgbClr val="ff0000"/>
                </a:solidFill>
                <a:latin typeface="微軟正黑體"/>
              </a:rPr>
              <a:t>4</a:t>
            </a:r>
            <a:r>
              <a:rPr b="1" lang="zh-TW" sz="2800" spc="-1" strike="noStrike">
                <a:solidFill>
                  <a:srgbClr val="ff0000"/>
                </a:solidFill>
                <a:latin typeface="微軟正黑體"/>
              </a:rPr>
              <a:t>時前</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600200"/>
            <a:ext cx="856944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r>
              <a:rPr b="0" lang="en-US" sz="2700" spc="-1" strike="noStrike">
                <a:solidFill>
                  <a:srgbClr val="000000"/>
                </a:solidFill>
                <a:latin typeface="微軟正黑體"/>
              </a:rPr>
              <a:t>(P7-10)</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r>
              <a:rPr b="0" lang="en-US" sz="2700" spc="-1" strike="noStrike">
                <a:solidFill>
                  <a:srgbClr val="000000"/>
                </a:solidFill>
                <a:latin typeface="微軟正黑體"/>
              </a:rPr>
              <a:t>(P11)</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r>
              <a:rPr b="0" lang="en-US" sz="2700" spc="-1" strike="noStrike">
                <a:solidFill>
                  <a:srgbClr val="000000"/>
                </a:solidFill>
                <a:latin typeface="微軟正黑體"/>
              </a:rPr>
              <a:t>(P12)</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79"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微軟正黑體"/>
              </a:rPr>
              <a:t>超額</a:t>
            </a:r>
            <a:r>
              <a:rPr b="1" lang="zh-TW" sz="2700" spc="-1" strike="noStrike">
                <a:solidFill>
                  <a:srgbClr val="000000"/>
                </a:solidFill>
                <a:latin typeface="微軟正黑體"/>
              </a:rPr>
              <a:t>與</a:t>
            </a:r>
            <a:r>
              <a:rPr b="1" lang="zh-TW" sz="2700" spc="-1" strike="noStrike" u="sng">
                <a:solidFill>
                  <a:srgbClr val="0000cc"/>
                </a:solidFill>
                <a:uFillTx/>
                <a:latin typeface="微軟正黑體"/>
              </a:rPr>
              <a:t>縣內介聘</a:t>
            </a:r>
            <a:r>
              <a:rPr b="1" lang="zh-TW" sz="2700" spc="-1" strike="noStrike">
                <a:solidFill>
                  <a:srgbClr val="ff0000"/>
                </a:solidFill>
                <a:latin typeface="微軟正黑體"/>
              </a:rPr>
              <a:t>申請表不同</a:t>
            </a:r>
            <a:r>
              <a:rPr b="1" lang="zh-TW" sz="2700" spc="-1" strike="noStrike">
                <a:solidFill>
                  <a:srgbClr val="000000"/>
                </a:solidFill>
                <a:latin typeface="微軟正黑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上</a:t>
            </a:r>
            <a:r>
              <a:rPr b="1" lang="zh-TW" sz="2700" spc="-1" strike="noStrike">
                <a:solidFill>
                  <a:srgbClr val="000000"/>
                </a:solidFill>
                <a:latin typeface="微軟正黑體"/>
              </a:rPr>
              <a:t>申請人、人事主管、校長</a:t>
            </a:r>
            <a:r>
              <a:rPr b="0" lang="zh-TW" sz="2700" spc="-1" strike="noStrike">
                <a:solidFill>
                  <a:srgbClr val="000000"/>
                </a:solidFill>
                <a:latin typeface="微軟正黑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自行至縣府雲端或介聘天地下載，</a:t>
            </a:r>
            <a:r>
              <a:rPr b="0" lang="zh-TW" sz="2700" spc="-1" strike="noStrike" u="sng">
                <a:solidFill>
                  <a:srgbClr val="000000"/>
                </a:solidFill>
                <a:uFillTx/>
                <a:latin typeface="微軟正黑體"/>
              </a:rPr>
              <a:t>印成</a:t>
            </a:r>
            <a:r>
              <a:rPr b="1" lang="en-US" sz="2700" spc="-1" strike="noStrike" u="sng">
                <a:solidFill>
                  <a:srgbClr val="ff0000"/>
                </a:solidFill>
                <a:uFillTx/>
                <a:latin typeface="微軟正黑體"/>
              </a:rPr>
              <a:t>A3</a:t>
            </a:r>
            <a:r>
              <a:rPr b="0" lang="zh-TW" sz="2700" spc="-1" strike="noStrike" u="sng">
                <a:solidFill>
                  <a:srgbClr val="000000"/>
                </a:solidFill>
                <a:uFillTx/>
                <a:latin typeface="微軟正黑體"/>
              </a:rPr>
              <a:t>大小</a:t>
            </a:r>
            <a:r>
              <a:rPr b="0" lang="zh-TW" sz="2700" spc="-1" strike="noStrike">
                <a:solidFill>
                  <a:srgbClr val="000000"/>
                </a:solidFill>
                <a:latin typeface="微軟正黑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標題 1" descr=""/>
          <p:cNvPicPr/>
          <p:nvPr/>
        </p:nvPicPr>
        <p:blipFill>
          <a:blip r:embed="rId1"/>
          <a:stretch/>
        </p:blipFill>
        <p:spPr>
          <a:xfrm>
            <a:off x="457200" y="274680"/>
            <a:ext cx="8229600" cy="1157400"/>
          </a:xfrm>
          <a:prstGeom prst="rect">
            <a:avLst/>
          </a:prstGeom>
          <a:ln w="0">
            <a:noFill/>
          </a:ln>
        </p:spPr>
      </p:pic>
      <p:sp>
        <p:nvSpPr>
          <p:cNvPr id="383"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4" name="圓角矩形 5"/>
          <p:cNvSpPr/>
          <p:nvPr/>
        </p:nvSpPr>
        <p:spPr>
          <a:xfrm>
            <a:off x="844560" y="2744640"/>
            <a:ext cx="7632720" cy="13687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或開縣外介聘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98440" y="1413000"/>
          <a:ext cx="8424720" cy="4322520"/>
        </p:xfrm>
        <a:graphic>
          <a:graphicData uri="http://schemas.openxmlformats.org/drawingml/2006/table">
            <a:tbl>
              <a:tblPr/>
              <a:tblGrid>
                <a:gridCol w="360360"/>
                <a:gridCol w="1079640"/>
                <a:gridCol w="720720"/>
                <a:gridCol w="647640"/>
                <a:gridCol w="1152360"/>
                <a:gridCol w="1465200"/>
                <a:gridCol w="299880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10</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86" name="標題 1" descr=""/>
          <p:cNvPicPr/>
          <p:nvPr/>
        </p:nvPicPr>
        <p:blipFill>
          <a:blip r:embed="rId1"/>
          <a:stretch/>
        </p:blipFill>
        <p:spPr>
          <a:xfrm>
            <a:off x="506520" y="189000"/>
            <a:ext cx="8229600" cy="1139760"/>
          </a:xfrm>
          <a:prstGeom prst="rect">
            <a:avLst/>
          </a:prstGeom>
          <a:ln w="0">
            <a:noFill/>
          </a:ln>
        </p:spPr>
      </p:pic>
      <p:sp>
        <p:nvSpPr>
          <p:cNvPr id="387" name="圓角矩形 4"/>
          <p:cNvSpPr/>
          <p:nvPr/>
        </p:nvSpPr>
        <p:spPr>
          <a:xfrm>
            <a:off x="2340000" y="2279520"/>
            <a:ext cx="3384360" cy="3456000"/>
          </a:xfrm>
          <a:custGeom>
            <a:avLst/>
            <a:gdLst>
              <a:gd name="textAreaLeft" fmla="*/ 164880 w 3384360"/>
              <a:gd name="textAreaRight" fmla="*/ 3219480 w 3384360"/>
              <a:gd name="textAreaTop" fmla="*/ 164880 h 3456000"/>
              <a:gd name="textAreaBottom" fmla="*/ 3291120 h 3456000"/>
            </a:gdLst>
            <a:ahLst/>
            <a:rect l="textAreaLeft" t="textAreaTop" r="textAreaRight" b="textAreaBottom"/>
            <a:pathLst>
              <a:path w="21600" h="22057">
                <a:moveTo>
                  <a:pt x="3600" y="0"/>
                </a:moveTo>
                <a:arcTo wR="3600" hR="3600" stAng="16200000" swAng="-5400000"/>
                <a:lnTo>
                  <a:pt x="0" y="18457"/>
                </a:lnTo>
                <a:arcTo wR="3600" hR="3600" stAng="10800000" swAng="-5400000"/>
                <a:lnTo>
                  <a:pt x="18000" y="22057"/>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現有</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任輔導教師</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511280"/>
                <a:gridCol w="2952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5</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89" name="標題 1" descr=""/>
          <p:cNvPicPr/>
          <p:nvPr/>
        </p:nvPicPr>
        <p:blipFill>
          <a:blip r:embed="rId1"/>
          <a:stretch/>
        </p:blipFill>
        <p:spPr>
          <a:xfrm>
            <a:off x="487440" y="115920"/>
            <a:ext cx="8229600" cy="938160"/>
          </a:xfrm>
          <a:prstGeom prst="rect">
            <a:avLst/>
          </a:prstGeom>
          <a:ln w="0">
            <a:noFill/>
          </a:ln>
        </p:spPr>
      </p:pic>
      <p:sp>
        <p:nvSpPr>
          <p:cNvPr id="390"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1" name="矩形 6"/>
          <p:cNvSpPr/>
          <p:nvPr/>
        </p:nvSpPr>
        <p:spPr>
          <a:xfrm>
            <a:off x="5075280" y="292428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2" name="矩形 8"/>
          <p:cNvSpPr/>
          <p:nvPr/>
        </p:nvSpPr>
        <p:spPr>
          <a:xfrm>
            <a:off x="5580000" y="4753080"/>
            <a:ext cx="100800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蔡穎逸</cp:lastModifiedBy>
  <cp:lastPrinted>2021-03-30T09:33:53Z</cp:lastPrinted>
  <dcterms:modified xsi:type="dcterms:W3CDTF">2021-03-31T03:10:49Z</dcterms:modified>
  <cp:revision>149</cp:revision>
  <dc:subject/>
  <dc:title>PowerPoint 簡報</dc:title>
</cp:coreProperties>
</file>